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83D-6398-489B-9B8E-A0E0E46B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s://facinatingamazinganimals.wordpress.com/tag/anima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Carl_Linna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ish bota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3ubio.weebly.com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79849572-b29d-401b-9c26-c37ff1e3cafd@5/Classification_of_Matter_-_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content/variation-within-species-4308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colouration of these butterflies depends on season when they were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nrg/journal/v10/n11/fig_tab/nrg2687_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sexual dimor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Eclectus_p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ectus parrot (male is green, female is 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mhs.vic.edu.au/macbeth/historical/elizabord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morning-earth.org/Graphic-E/SymbiosisProcary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812-E544-43E6-90EF-9E01480E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6BD-9F20-4C34-8F5A-D70F2BF4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5B1-BDE7-4E98-B50A-2BA2E4A4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2EF-265E-4FD8-B9DD-405D00B8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E6C-C4F9-4C44-9695-1A291B54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F2B-FA27-4B54-85CB-F4F69ACE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3C1-8856-4F40-B3CD-740A729B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C65-BF46-4F93-9F6D-C00810B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A11-7A71-4979-B401-7E3FBC0C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872-A386-4E74-8452-0210C05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B8A-864D-44A6-95B3-1ECE8985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26B-E948-4FB4-B322-A8599B84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C90-AAD6-42B1-81C5-EB534984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onomic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7920" y="1600200"/>
            <a:ext cx="444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 Linnaeus (1707-177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of taxonom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naming syste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nomencl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 sapi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21200" y="1981080"/>
            <a:ext cx="372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catio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teria used to classify organisms can be used when attempting to identif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chotomous k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 series of branching two-part statements used to identify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693800"/>
            <a:ext cx="8458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pecies of trees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06560" y="1981080"/>
            <a:ext cx="712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items into various categories based on a set of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tegories/criteria would you use to sort…musical recordings? grocery store items? your clo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478240"/>
            <a:ext cx="77724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Living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science of classifying all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Mini-Investigation “Creating a Classification System” [page 1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023920"/>
            <a:ext cx="77724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7360" y="1676520"/>
            <a:ext cx="82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e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capable of breeding freely with each other under natural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959200"/>
            <a:ext cx="3809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32360" y="304920"/>
            <a:ext cx="301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85960" y="1981080"/>
            <a:ext cx="557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10:11Z</dcterms:created>
  <dc:creator>rubina khan</dc:creator>
  <dc:description/>
  <dc:language>en-US</dc:language>
  <cp:lastModifiedBy>rubina khan</cp:lastModifiedBy>
  <dcterms:modified xsi:type="dcterms:W3CDTF">2015-02-03T04:56:27Z</dcterms:modified>
  <cp:revision>63</cp:revision>
  <dc:subject/>
  <dc:title>PowerPoint Presentation</dc:title>
</cp:coreProperties>
</file>